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A17D-F5D4-4EEC-98DC-5278A040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760-8CA5-453B-AF02-53905D31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C712-59A1-48E8-89E4-D9E5BC8B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86B-A740-44DA-87D8-CF3D1893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0E8-A9DA-4D06-B8EF-1EAEE248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0D5-0DC2-49F5-8002-2AA52E3D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C50-5C17-44CE-A404-F9EC2B90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54A-5E54-46C2-8528-FCF59233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4A3-A88B-402A-A860-488EC2D8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4C5-F03F-4C0F-AB94-D7A908D4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178-F9CE-490E-BA5A-14DD6047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DE1-4FC9-4B4E-A85A-2AC2EA6D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AEFB-D7B8-454E-BB66-CF0800C42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ioc-project.org/" TargetMode="External"/><Relationship Id="rId2" Type="http://schemas.openxmlformats.org/officeDocument/2006/relationships/hyperlink" Target="http://swan.mindinformatics.org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CLS Scientific Discour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-SHALS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 Cl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achusetts General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Harvard Medical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25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0640" y="59054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5800" y="5856120"/>
            <a:ext cx="73332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N-SIOC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3520" y="1821960"/>
            <a:ext cx="73580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course catego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research questions, scientific assertions or claims, hypotheses, comments and discussion, and evid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iomedical catego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enes, proteins, antibodies, animal models, laboratory protocols, biological processes, reagents, disease classifications, user-generated tags, and bibliographic refer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riving Biological Pro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ross-application of discoveries, methods and reagents in stem cell, Alzheimer and Parkinson disease resear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formatics use c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teroperability of web-based research communitie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each other (b) key biomedical ontologies (c ) algorithms for bibliographic annotation and text mining (d) key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AN-SIOC +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 discourse is about, or “warrant for belief” within discou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hypothesis and interpretation to data and data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-analysis, replication, re-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nance of evidence /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0" y="54000"/>
            <a:ext cx="5346720" cy="680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324480" y="4952880"/>
            <a:ext cx="12956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6440" y="50292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N-SIOC + my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integr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 Search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6920" y="1946160"/>
            <a:ext cx="871848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all discussion of NF-kappaB by any synony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discussion on [“NF-KB1” ∧ “inflammatory response”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experiments on other genes and proteins relevant to “neuroinflammation”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conflicting assertions about PD “anti-inflammatory response” and supporting experimental data for both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 workflows were used to analyze the experiment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trieve the data for re-analysis or meta-analysi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CLS Scientific Discourse connects: hypothesis, experiment, interpretation, citation, evidence and discuss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ve re-use of other ontologi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 case “laboratory” in neuroscience focused on neurodegenerative diseases and regenerative medici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WAN-SIOC integration complete, IG Note forthcom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WAN-SIOC myExperiment is in progr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dis Bojars (DERI)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John Breslin (DER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 Cheung (Ya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olo Ciccarese (Harvar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Tim Clark (Harv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deshna Das (Harvar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deRoure (Southampt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nan Fox (D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dor Groza (D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oph Lange (Jacobs Univer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Newman (Southampt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o Ocana (M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 Passant (D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c Prud’hommeaux (W3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Samwald (D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ger Stenzhorn (D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ie Stephens (Eli Li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zabeth Wu (Alzheimer Research F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61722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task co-ch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olo Cicca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New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re Pass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c Prud’homm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ie Step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8320" y="-679320"/>
            <a:ext cx="5294520" cy="7502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68320" y="-679320"/>
            <a:ext cx="5294520" cy="7502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332160" y="1349280"/>
            <a:ext cx="2473200" cy="3446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32160" y="1349280"/>
            <a:ext cx="2473200" cy="3446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741320" y="2027160"/>
            <a:ext cx="5343840" cy="2795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50840" y="3054240"/>
            <a:ext cx="91346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4500" spc="-1" strike="noStrike">
                <a:solidFill>
                  <a:srgbClr val="4a00e6"/>
                </a:solidFill>
                <a:latin typeface="Helvetica Neue"/>
              </a:rPr>
              <a:t>Scientific Discours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is experiment + dis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experimental evide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ment of results within a mode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s in models and interpret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 of confli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urse incl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es, claims and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d interpret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uttal, agreement or commen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ques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3520" y="213840"/>
            <a:ext cx="73580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: Gaps and Inconsistencies in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888840" indent="-57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ngst the 20 top candidate theories about how Alzheimer Disease works, there are at l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3344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key scientific disagreemen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344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key open questions to be res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, theory development and argument should eventually resolv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CLS Discourse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use c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science-related in this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relevant ont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C, SWAN, myExperiment, Lilly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 in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and publish integrated ont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ogress: SWAN+SIOC IG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1800" y="342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8160" y="588960"/>
            <a:ext cx="77709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AN+SI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3520" y="1445760"/>
            <a:ext cx="735804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O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ioc-project.or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ivities and contributions of online communiti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tegration with blogging, wiki and CMS soft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 of existing ontologies e.g. FOAF, SKOS, D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WA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wan.mindinformatics.or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76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ypotheses, claims, evidence, concepts, ent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76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chema for SWAN Alzheimer knowledge b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76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going integration into SCF Drupal toolki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28800" y="554040"/>
            <a:ext cx="7286400" cy="5748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8:11Z</dcterms:created>
  <dc:creator>Tim Clark</dc:creator>
  <dc:description/>
  <dc:language>en-US</dc:language>
  <cp:lastModifiedBy>c082000</cp:lastModifiedBy>
  <dcterms:modified xsi:type="dcterms:W3CDTF">2009-02-24T17:15:58Z</dcterms:modified>
  <cp:revision>10</cp:revision>
  <dc:subject/>
  <dc:title>HCLS Scientific Discourse</dc:title>
</cp:coreProperties>
</file>